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1ED-AF09-4745-A539-9ED63C72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A82-A707-4F80-A6EC-859B626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1A4-C96D-4419-BC79-2536BD34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C65-C526-4808-9DBB-0117774E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03C-91DB-4AFD-BD8F-312B8055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116-DF95-40D8-8392-85D91C5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23C-3A5D-47AA-B938-82A840F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7C1-B718-422D-BAE5-CF7971D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05B-36AA-48DC-8B12-98A486C8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15F-EA5F-4991-B08B-1428082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68D-5688-43BE-AD08-9361B0AB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15A-4E25-4B07-9D08-287268E0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ACC3-86AA-49A7-832A-A7F7AE54C76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ANGRAM</a:t>
            </a:r>
            <a:endParaRPr b="0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146560"/>
            <a:ext cx="1925640" cy="17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0" y="5146560"/>
            <a:ext cx="1925640" cy="170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Ősi kínai kirakójáték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 tangram részei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80"/>
                </a:solidFill>
                <a:latin typeface="Arial"/>
              </a:rPr>
              <a:t>A tangram 7 db síkidomból áll: 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2 db kis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közepes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2 db nagy háromszög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négyzet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1 db paralelogram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91280" y="3429000"/>
            <a:ext cx="32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 tangramozás szabályai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gy-egy alakzat kirakásához mind a hét lapot fel kell használn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lapokat egymás mellé kell helyezni, nem takarhatják egymást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23880" y="3492360"/>
            <a:ext cx="3266280" cy="3265200"/>
            <a:chOff x="623880" y="3492360"/>
            <a:chExt cx="3266280" cy="32652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618840" y="4686120"/>
              <a:ext cx="140040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311120" y="399240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 rot="8097600">
              <a:off x="1165320" y="363816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 rot="2692200">
              <a:off x="2793600" y="3728880"/>
              <a:ext cx="704880" cy="14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2004480" y="4677840"/>
              <a:ext cx="139068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2004840" y="5357520"/>
              <a:ext cx="704880" cy="14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 rot="8116200">
              <a:off x="1155240" y="5709960"/>
              <a:ext cx="71460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630840" y="5052960"/>
            <a:ext cx="2238480" cy="1657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49600" y="4168800"/>
            <a:ext cx="17240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6:20:13Z</dcterms:created>
  <dc:creator/>
  <dc:description/>
  <dc:language>en-US</dc:language>
  <cp:lastModifiedBy>OKÉV</cp:lastModifiedBy>
  <dcterms:modified xsi:type="dcterms:W3CDTF">2007-06-19T19:30:29Z</dcterms:modified>
  <cp:revision>8</cp:revision>
  <dc:subject/>
  <dc:title>Tangram</dc:title>
</cp:coreProperties>
</file>